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620-14E1-4B08-9BBC-449B654B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A24-063E-45C8-A24F-87832462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494-FB43-48F7-9DE2-E0D0A2A1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52C-ACA2-44A0-8635-F1B0C79A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ADF-D982-48AA-8AF3-9EAC23C3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67E-2F09-4F67-8DE6-A4A5FF9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536-C404-40AF-9C7A-B7758B9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50D-D9E9-4FDE-8DEA-8BA7790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224-5EF3-4D54-8FA7-3203996F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B09-4503-48D4-9897-723473A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993-3FC4-414E-AAB3-85A6494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4B5-227F-434F-9761-38DF8D1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98ED-5AB2-4B7C-95CF-ED7BC49B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6160" y="269064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9:57:11Z</dcterms:created>
  <dc:creator>lab</dc:creator>
  <dc:description/>
  <dc:language>en-US</dc:language>
  <cp:lastModifiedBy>lab</cp:lastModifiedBy>
  <dcterms:modified xsi:type="dcterms:W3CDTF">2010-07-27T19:57:20Z</dcterms:modified>
  <cp:revision>1</cp:revision>
  <dc:subject/>
  <dc:title>Slide 1</dc:title>
</cp:coreProperties>
</file>